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C1D-936B-4F71-82CB-337A1890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2A4-1193-498A-A604-9EB6CB3B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84C-90E7-4EC6-AF7C-7327980B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5799-7851-40EB-9C98-8FEEA691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576-948C-4933-AADD-2D3701F4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8D4-B3F7-4A22-9306-DF8E3E7B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17A-52B5-49D9-A316-D95D80A8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AB3-A666-4E8B-99CB-931A6F38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14A-9A56-43F7-A4F6-140B8735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F63-3D00-46C6-978A-1D19B2B1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B83-EDD8-4328-836D-FF65F2D5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0E3-77DD-4DF2-8A63-107A67E7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26DB-8EDE-47C5-B6AF-858D5D3BD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ing Our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wer Point Presentation by Mrs. Kee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00028_" descr=""/>
          <p:cNvPicPr/>
          <p:nvPr/>
        </p:nvPicPr>
        <p:blipFill>
          <a:blip r:embed="rId1"/>
          <a:stretch/>
        </p:blipFill>
        <p:spPr>
          <a:xfrm>
            <a:off x="4140360" y="300672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, brainstorm to narrow top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3520" y="2133720"/>
          <a:ext cx="8076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076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, narrow fur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1981080"/>
          <a:ext cx="84582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4582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’s do the same for weap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66840" y="1981080"/>
          <a:ext cx="6610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981080"/>
                    <a:ext cx="6610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t be answered in just a few words?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d where did the Challenger explo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any people died during the attacks at Pearl Harb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_sts" descr=""/>
          <p:cNvPicPr/>
          <p:nvPr/>
        </p:nvPicPr>
        <p:blipFill>
          <a:blip r:embed="rId1"/>
          <a:stretch/>
        </p:blipFill>
        <p:spPr>
          <a:xfrm>
            <a:off x="7391520" y="3124080"/>
            <a:ext cx="982440" cy="990720"/>
          </a:xfrm>
          <a:prstGeom prst="rect">
            <a:avLst/>
          </a:prstGeom>
          <a:ln w="0">
            <a:noFill/>
          </a:ln>
        </p:spPr>
      </p:pic>
      <p:pic>
        <p:nvPicPr>
          <p:cNvPr id="56" name="ph04" descr="The Arizona ablaze"/>
          <p:cNvPicPr/>
          <p:nvPr/>
        </p:nvPicPr>
        <p:blipFill>
          <a:blip r:embed="rId2"/>
          <a:stretch/>
        </p:blipFill>
        <p:spPr>
          <a:xfrm>
            <a:off x="4495680" y="5486400"/>
            <a:ext cx="111312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it take too many pages to answer the question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ed during the Vietnam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history of schools in Ame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makes Mr. Jaffe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8452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boxset" descr="Photo of boxed set"/>
          <p:cNvPicPr/>
          <p:nvPr/>
        </p:nvPicPr>
        <p:blipFill>
          <a:blip r:embed="rId1"/>
          <a:stretch/>
        </p:blipFill>
        <p:spPr>
          <a:xfrm>
            <a:off x="685800" y="2117880"/>
            <a:ext cx="38098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it make sens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were the Rolling Stones and why did they break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Lee Harvey Oswald kill Robert Kenne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aulsen-stonesinterview" descr="The Rolling Stones photographed by Don Paulsen"/>
          <p:cNvPicPr/>
          <p:nvPr/>
        </p:nvPicPr>
        <p:blipFill>
          <a:blip r:embed="rId1"/>
          <a:stretch/>
        </p:blipFill>
        <p:spPr>
          <a:xfrm>
            <a:off x="1214280" y="1981080"/>
            <a:ext cx="275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re too many prong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160" y="2209680"/>
            <a:ext cx="6629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ere the major tanks, airplanes, and artillery used during World War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as Princess Diana’s childhood, education, marriage, and divorce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were the crew members of the Challenger, what caused it to explode, and what was the reaction of the peop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664000" y="1371600"/>
            <a:ext cx="3816000" cy="3994200"/>
            <a:chOff x="2664000" y="1371600"/>
            <a:chExt cx="3816000" cy="3994200"/>
          </a:xfrm>
        </p:grpSpPr>
        <p:sp>
          <p:nvSpPr>
            <p:cNvPr id="69" name=""/>
            <p:cNvSpPr/>
            <p:nvPr/>
          </p:nvSpPr>
          <p:spPr>
            <a:xfrm>
              <a:off x="2664000" y="1371600"/>
              <a:ext cx="3314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64000" y="1371600"/>
              <a:ext cx="38160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5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di" descr="Princess Diana, Many Will miss you"/>
          <p:cNvPicPr/>
          <p:nvPr/>
        </p:nvPicPr>
        <p:blipFill>
          <a:blip r:embed="rId1"/>
          <a:stretch/>
        </p:blipFill>
        <p:spPr>
          <a:xfrm>
            <a:off x="452520" y="3657600"/>
            <a:ext cx="892080" cy="1295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176480" y="3086280"/>
            <a:ext cx="6789600" cy="360"/>
            <a:chOff x="1176480" y="3086280"/>
            <a:chExt cx="6789600" cy="360"/>
          </a:xfrm>
        </p:grpSpPr>
        <p:sp>
          <p:nvSpPr>
            <p:cNvPr id="74" name=""/>
            <p:cNvSpPr/>
            <p:nvPr/>
          </p:nvSpPr>
          <p:spPr>
            <a:xfrm>
              <a:off x="1176480" y="3086280"/>
              <a:ext cx="6789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76480" y="3086280"/>
              <a:ext cx="6789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0" y="3086280"/>
            <a:ext cx="9144000" cy="685800"/>
            <a:chOff x="0" y="3086280"/>
            <a:chExt cx="9144000" cy="685800"/>
          </a:xfrm>
        </p:grpSpPr>
        <p:sp>
          <p:nvSpPr>
            <p:cNvPr id="77" name=""/>
            <p:cNvSpPr/>
            <p:nvPr/>
          </p:nvSpPr>
          <p:spPr>
            <a:xfrm>
              <a:off x="0" y="3086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308628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3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sherman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1211400" cy="628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518148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mcauliffeIV" descr=""/>
          <p:cNvPicPr/>
          <p:nvPr/>
        </p:nvPicPr>
        <p:blipFill>
          <a:blip r:embed="rId3"/>
          <a:stretch/>
        </p:blipFill>
        <p:spPr>
          <a:xfrm>
            <a:off x="457200" y="5334120"/>
            <a:ext cx="11430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an obvious answe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is George W. Bush and why is he famo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obacco bad for your health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story of Christmas?  What does it mean to peopl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200" y="103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dumb" descr="dumb.jpg (12388 bytes)"/>
          <p:cNvPicPr/>
          <p:nvPr/>
        </p:nvPicPr>
        <p:blipFill>
          <a:blip r:embed="rId1"/>
          <a:srcRect l="12394" t="1724" r="10387" b="29314"/>
          <a:stretch/>
        </p:blipFill>
        <p:spPr>
          <a:xfrm>
            <a:off x="1447920" y="2057400"/>
            <a:ext cx="21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21:17:12Z</dcterms:created>
  <dc:creator>Administrator</dc:creator>
  <dc:description/>
  <dc:language>en-US</dc:language>
  <cp:lastModifiedBy>Mill Creek Elementary School</cp:lastModifiedBy>
  <dcterms:modified xsi:type="dcterms:W3CDTF">2004-04-23T17:16:48Z</dcterms:modified>
  <cp:revision>7</cp:revision>
  <dc:subject/>
  <dc:title>Questioning Our Questions</dc:title>
</cp:coreProperties>
</file>